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6128-6E29-470A-AD3F-5700B0EB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27040"/>
            <a:ext cx="83059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52A9-CD46-4A11-A064-BA454EC5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532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3480" y="2057040"/>
            <a:ext cx="40532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532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3480" y="4127040"/>
            <a:ext cx="40532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8AFB-CDF4-4AF5-AB4F-3059ABC60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26744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5920" y="2057040"/>
            <a:ext cx="26744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4280" y="2057040"/>
            <a:ext cx="26744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27040"/>
            <a:ext cx="26744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5920" y="4127040"/>
            <a:ext cx="26744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4280" y="4127040"/>
            <a:ext cx="26744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E9D7-6AFF-49A3-B79F-9BA2296A6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1657-ED42-471C-A8CD-75C5B3387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C9FC-2BB5-4A73-8118-3EFDDEC5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D650-F6FA-4868-8F6A-4A058B11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53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3480" y="2057040"/>
            <a:ext cx="4053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2CBA-E179-47FD-A92A-579836F3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6160-0C85-4984-942D-36E91C66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E1E8-BFE8-4181-88D1-7B7D6131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532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3480" y="2057040"/>
            <a:ext cx="4053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532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1FC6-4CD1-41FB-8BC3-B08DCEAD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94C5-778E-4FB2-A0FD-2E0FC125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53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3480" y="2057040"/>
            <a:ext cx="40532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3480" y="4127040"/>
            <a:ext cx="40532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2369-FB8F-4EC3-80CB-73638B2D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532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3480" y="2057040"/>
            <a:ext cx="40532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83059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283A-2DC8-4643-B24C-E3CBFD01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27040"/>
            <a:ext cx="83059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48FC-3AC2-4B8B-BB89-419814E9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532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3480" y="2057040"/>
            <a:ext cx="40532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532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3480" y="4127040"/>
            <a:ext cx="40532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9F53-8E3D-45D5-A26A-3C05CF95D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26744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65920" y="2057040"/>
            <a:ext cx="26744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4280" y="2057040"/>
            <a:ext cx="26744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27040"/>
            <a:ext cx="26744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65920" y="4127040"/>
            <a:ext cx="26744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4280" y="4127040"/>
            <a:ext cx="26744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3658-A9D3-4AAB-A69A-141A1BA71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2832-F60C-4612-994E-D5C49D0F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53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3480" y="2057040"/>
            <a:ext cx="4053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8D35-CD46-4174-83E3-C7644199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2C7B-5046-4B41-B5C2-E5FBBA1F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6CE6-AB92-43EC-992B-88F29FAF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532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2057040"/>
            <a:ext cx="4053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40532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5BF5-7771-4D7A-B70C-BBAB2659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53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3480" y="2057040"/>
            <a:ext cx="40532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3480" y="4127040"/>
            <a:ext cx="40532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1B61-B04C-4524-AE7D-0C0832DA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532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3480" y="2057040"/>
            <a:ext cx="40532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27040"/>
            <a:ext cx="83059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2FB3-0826-48F4-8340-BD8A162E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Pizzicato-Swash"/>
              </a:rPr>
              <a:t>Click to edit the title text format</a:t>
            </a: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0570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izzicato-Swash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lvl="1" marL="713160" indent="-274320">
              <a:spcBef>
                <a:spcPts val="799"/>
              </a:spcBef>
              <a:buClr>
                <a:srgbClr val="99cc00"/>
              </a:buClr>
              <a:buFont typeface="Pizzicato-Swa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izzicato-Swash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lvl="2" marL="1097280" indent="-21924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izzicato-Swash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lvl="3" marL="1536120" indent="-219240">
              <a:spcBef>
                <a:spcPts val="799"/>
              </a:spcBef>
              <a:buClr>
                <a:srgbClr val="99cc00"/>
              </a:buClr>
              <a:buFont typeface="Pizzicato-Swa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izzicato-Swash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lvl="4" marL="1974960" indent="-219240">
              <a:spcBef>
                <a:spcPts val="799"/>
              </a:spcBef>
              <a:buClr>
                <a:srgbClr val="99cc00"/>
              </a:buClr>
              <a:buFont typeface="Pizzicato-Swash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izzicato-Swash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Pizzicato-Swash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izzicato-Swash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Pizzicato-Swash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izzicato-Swash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Pizzicato-Swash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9776-6C36-49B1-9749-54CCAD3ABDE6}" type="slidenum">
              <a:rPr b="0" lang="en-US" sz="1400" spc="-1" strike="noStrike">
                <a:solidFill>
                  <a:srgbClr val="000066"/>
                </a:solidFill>
                <a:latin typeface="Pizzicato-Swash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Pizzicato-Swash"/>
              </a:rPr>
              <a:t>Click to edit the title text format</a:t>
            </a: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20570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izzicato-Swash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lvl="1" marL="713160" indent="-274320">
              <a:spcBef>
                <a:spcPts val="799"/>
              </a:spcBef>
              <a:buClr>
                <a:srgbClr val="99cc00"/>
              </a:buClr>
              <a:buFont typeface="Pizzicato-Swa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izzicato-Swash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lvl="2" marL="1097280" indent="-21924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izzicato-Swash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lvl="3" marL="1536120" indent="-219240">
              <a:spcBef>
                <a:spcPts val="799"/>
              </a:spcBef>
              <a:buClr>
                <a:srgbClr val="99cc00"/>
              </a:buClr>
              <a:buFont typeface="Pizzicato-Swash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izzicato-Swash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lvl="4" marL="1974960" indent="-219240">
              <a:spcBef>
                <a:spcPts val="799"/>
              </a:spcBef>
              <a:buClr>
                <a:srgbClr val="99cc00"/>
              </a:buClr>
              <a:buFont typeface="Pizzicato-Swash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izzicato-Swash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Pizzicato-Swash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izzicato-Swash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Pizzicato-Swash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izzicato-Swash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5F64-BB9A-443C-ADDC-0B96BBBAD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cc0066"/>
                </a:solidFill>
                <a:latin typeface="Pizzicato-Swash"/>
              </a:rPr>
              <a:t>Les adjectifs possessifs</a:t>
            </a:r>
            <a:endParaRPr b="1" lang="en-US" sz="5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800" spc="-1" strike="noStrike">
              <a:solidFill>
                <a:srgbClr val="99cc00"/>
              </a:solidFill>
              <a:latin typeface="Pizzicato-Swas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Pizzicato-Swash"/>
              </a:rPr>
              <a:t>Et si c’est à vous?</a:t>
            </a: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pic>
        <p:nvPicPr>
          <p:cNvPr id="124" name="Picture 3" descr="pencil"/>
          <p:cNvPicPr/>
          <p:nvPr/>
        </p:nvPicPr>
        <p:blipFill>
          <a:blip r:embed="rId1"/>
          <a:stretch/>
        </p:blipFill>
        <p:spPr>
          <a:xfrm>
            <a:off x="2340000" y="1844640"/>
            <a:ext cx="2306520" cy="1417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876920" y="1599840"/>
            <a:ext cx="4016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’est </a:t>
            </a:r>
            <a:r>
              <a:rPr b="1" lang="en-GB" sz="3200" spc="-1" strike="noStrike">
                <a:solidFill>
                  <a:srgbClr val="000000"/>
                </a:solidFill>
                <a:latin typeface="Pizzicato-Swash"/>
              </a:rPr>
              <a:t>votre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 crayon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’est </a:t>
            </a:r>
            <a:r>
              <a:rPr b="1" lang="en-GB" sz="3200" spc="-1" strike="noStrike">
                <a:solidFill>
                  <a:srgbClr val="000000"/>
                </a:solidFill>
                <a:latin typeface="Pizzicato-Swash"/>
              </a:rPr>
              <a:t>votre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 chaise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e sont </a:t>
            </a:r>
            <a:r>
              <a:rPr b="1" lang="en-GB" sz="3200" spc="-1" strike="noStrike">
                <a:solidFill>
                  <a:srgbClr val="000000"/>
                </a:solidFill>
                <a:latin typeface="Pizzicato-Swash"/>
              </a:rPr>
              <a:t>vos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 crayons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e sont </a:t>
            </a:r>
            <a:r>
              <a:rPr b="1" lang="en-GB" sz="3200" spc="-1" strike="noStrike">
                <a:solidFill>
                  <a:srgbClr val="000000"/>
                </a:solidFill>
                <a:latin typeface="Pizzicato-Swash"/>
              </a:rPr>
              <a:t>vos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 chaises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pic>
        <p:nvPicPr>
          <p:cNvPr id="126" name="Picture 5" descr="chair"/>
          <p:cNvPicPr/>
          <p:nvPr/>
        </p:nvPicPr>
        <p:blipFill>
          <a:blip r:embed="rId2"/>
          <a:stretch/>
        </p:blipFill>
        <p:spPr>
          <a:xfrm>
            <a:off x="0" y="1197000"/>
            <a:ext cx="2082960" cy="1562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pencils"/>
          <p:cNvPicPr/>
          <p:nvPr/>
        </p:nvPicPr>
        <p:blipFill>
          <a:blip r:embed="rId3"/>
          <a:stretch/>
        </p:blipFill>
        <p:spPr>
          <a:xfrm>
            <a:off x="0" y="299736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chairs"/>
          <p:cNvPicPr/>
          <p:nvPr/>
        </p:nvPicPr>
        <p:blipFill>
          <a:blip r:embed="rId4"/>
          <a:stretch/>
        </p:blipFill>
        <p:spPr>
          <a:xfrm>
            <a:off x="2627280" y="3429000"/>
            <a:ext cx="19065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Pizzicato-Swash"/>
              </a:rPr>
              <a:t>Et si c’est à eux/elles?</a:t>
            </a: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pic>
        <p:nvPicPr>
          <p:cNvPr id="130" name="Picture 3" descr="pencil"/>
          <p:cNvPicPr/>
          <p:nvPr/>
        </p:nvPicPr>
        <p:blipFill>
          <a:blip r:embed="rId1"/>
          <a:stretch/>
        </p:blipFill>
        <p:spPr>
          <a:xfrm>
            <a:off x="2268360" y="4437000"/>
            <a:ext cx="2306880" cy="14176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1640" y="1773360"/>
            <a:ext cx="4321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’est </a:t>
            </a:r>
            <a:r>
              <a:rPr b="1" lang="en-GB" sz="3200" spc="-1" strike="noStrike">
                <a:solidFill>
                  <a:srgbClr val="000000"/>
                </a:solidFill>
                <a:latin typeface="Pizzicato-Swash"/>
              </a:rPr>
              <a:t>leur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 crayon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’est </a:t>
            </a:r>
            <a:r>
              <a:rPr b="1" lang="en-GB" sz="3200" spc="-1" strike="noStrike">
                <a:solidFill>
                  <a:srgbClr val="000000"/>
                </a:solidFill>
                <a:latin typeface="Pizzicato-Swash"/>
              </a:rPr>
              <a:t>leur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 chaise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e sont </a:t>
            </a:r>
            <a:r>
              <a:rPr b="1" lang="en-GB" sz="3200" spc="-1" strike="noStrike">
                <a:solidFill>
                  <a:srgbClr val="000000"/>
                </a:solidFill>
                <a:latin typeface="Pizzicato-Swash"/>
              </a:rPr>
              <a:t>leurs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 crayons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e sont </a:t>
            </a:r>
            <a:r>
              <a:rPr b="1" lang="en-GB" sz="3200" spc="-1" strike="noStrike">
                <a:solidFill>
                  <a:srgbClr val="000000"/>
                </a:solidFill>
                <a:latin typeface="Pizzicato-Swash"/>
              </a:rPr>
              <a:t>leurs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 chaises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pic>
        <p:nvPicPr>
          <p:cNvPr id="132" name="Picture 5" descr="chair"/>
          <p:cNvPicPr/>
          <p:nvPr/>
        </p:nvPicPr>
        <p:blipFill>
          <a:blip r:embed="rId2"/>
          <a:stretch/>
        </p:blipFill>
        <p:spPr>
          <a:xfrm>
            <a:off x="179280" y="1773360"/>
            <a:ext cx="2082960" cy="1562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pencils"/>
          <p:cNvPicPr/>
          <p:nvPr/>
        </p:nvPicPr>
        <p:blipFill>
          <a:blip r:embed="rId3"/>
          <a:stretch/>
        </p:blipFill>
        <p:spPr>
          <a:xfrm>
            <a:off x="0" y="342900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chairs"/>
          <p:cNvPicPr/>
          <p:nvPr/>
        </p:nvPicPr>
        <p:blipFill>
          <a:blip r:embed="rId4"/>
          <a:stretch/>
        </p:blipFill>
        <p:spPr>
          <a:xfrm>
            <a:off x="2556000" y="1773360"/>
            <a:ext cx="19065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cc0066"/>
                </a:solidFill>
                <a:latin typeface="Pizzicato-Swash"/>
              </a:rPr>
              <a:t>Les adjectifs possessifs</a:t>
            </a:r>
            <a:endParaRPr b="1" lang="en-US" sz="4000" spc="-1" strike="noStrike">
              <a:solidFill>
                <a:srgbClr val="cc0066"/>
              </a:solidFill>
              <a:latin typeface="Pizzicato-Swash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619280" y="1844640"/>
          <a:ext cx="6408720" cy="4479840"/>
        </p:xfrm>
        <a:graphic>
          <a:graphicData uri="http://schemas.openxmlformats.org/drawingml/2006/table">
            <a:tbl>
              <a:tblPr/>
              <a:tblGrid>
                <a:gridCol w="1601640"/>
                <a:gridCol w="1603440"/>
                <a:gridCol w="1602000"/>
                <a:gridCol w="1601640"/>
              </a:tblGrid>
              <a:tr h="1798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Pizzicato-Swash"/>
                        </a:rPr>
                        <a:t>Si l’objet est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99"/>
                          </a:solidFill>
                          <a:latin typeface="Pizzicato-Swash"/>
                        </a:rPr>
                        <a:t>Singulier 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99"/>
                          </a:solidFill>
                          <a:latin typeface="Pizzicato-Swash"/>
                        </a:rPr>
                        <a:t>Singulier 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99"/>
                          </a:solidFill>
                          <a:latin typeface="Pizzicato-Swash"/>
                        </a:rPr>
                        <a:t>Pluri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66ff"/>
                          </a:solidFill>
                          <a:latin typeface="Pizzicato-Swash"/>
                        </a:rPr>
                        <a:t>À mo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Pizzicato-Swash"/>
                        </a:rPr>
                        <a:t>M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Pizzicato-Swash"/>
                        </a:rPr>
                        <a:t>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Pizzicato-Swash"/>
                        </a:rPr>
                        <a:t>M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66ff"/>
                          </a:solidFill>
                          <a:latin typeface="Pizzicato-Swash"/>
                        </a:rPr>
                        <a:t>À to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Pizzicato-Swash"/>
                        </a:rPr>
                        <a:t>T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Pizzicato-Swash"/>
                        </a:rPr>
                        <a:t>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Pizzicato-Swash"/>
                        </a:rPr>
                        <a:t>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66ff"/>
                          </a:solidFill>
                          <a:latin typeface="Pizzicato-Swash"/>
                        </a:rPr>
                        <a:t>À lui</a:t>
                      </a: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Pizzicato-Swash"/>
                        </a:rPr>
                        <a:t>/el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Pizzicato-Swash"/>
                        </a:rPr>
                        <a:t>S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Pizzicato-Swash"/>
                        </a:rPr>
                        <a:t>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Pizzicato-Swash"/>
                        </a:rPr>
                        <a:t>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66ff"/>
                          </a:solidFill>
                          <a:latin typeface="Pizzicato-Swash"/>
                        </a:rPr>
                        <a:t>À n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Pizzicato-Swash"/>
                        </a:rPr>
                        <a:t>Not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Pizzicato-Swash"/>
                        </a:rPr>
                        <a:t>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66ff"/>
                          </a:solidFill>
                          <a:latin typeface="Pizzicato-Swash"/>
                        </a:rPr>
                        <a:t>À v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Pizzicato-Swash"/>
                        </a:rPr>
                        <a:t>Vot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Pizzicato-Swash"/>
                        </a:rPr>
                        <a:t>V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66ff"/>
                          </a:solidFill>
                          <a:latin typeface="Pizzicato-Swash"/>
                        </a:rPr>
                        <a:t>À eux</a:t>
                      </a: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Pizzicato-Swash"/>
                        </a:rPr>
                        <a:t>/el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Pizzicato-Swash"/>
                        </a:rPr>
                        <a:t>L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Pizzicato-Swash"/>
                        </a:rPr>
                        <a:t>Le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Par exemple: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35880" indent="-3358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______ amie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35880" indent="-3358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______ </a:t>
            </a:r>
            <a:r>
              <a:rPr b="0" lang="fr-CA" sz="3200" spc="-1" strike="noStrike">
                <a:solidFill>
                  <a:srgbClr val="000000"/>
                </a:solidFill>
                <a:latin typeface="Pizzicato-Swash"/>
              </a:rPr>
              <a:t>école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35880" indent="-3358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______ agrafeuse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mon / ton / son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Mon amie, ton </a:t>
            </a:r>
            <a:r>
              <a:rPr b="0" lang="fr-CA" sz="3200" spc="-1" strike="noStrike">
                <a:solidFill>
                  <a:srgbClr val="000000"/>
                </a:solidFill>
                <a:latin typeface="Pizzicato-Swash"/>
              </a:rPr>
              <a:t>école, son agrafeuse, etc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Pizzicato-Swash"/>
              </a:rPr>
              <a:t>Qu’est-ce que c’est?</a:t>
            </a: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766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À Robert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</p:txBody>
      </p:sp>
      <p:pic>
        <p:nvPicPr>
          <p:cNvPr id="141" name="Picture 5" descr="Saiyuki%20Reload%20Messenger%20Bag"/>
          <p:cNvPicPr/>
          <p:nvPr/>
        </p:nvPicPr>
        <p:blipFill>
          <a:blip r:embed="rId1"/>
          <a:stretch/>
        </p:blipFill>
        <p:spPr>
          <a:xfrm>
            <a:off x="3059280" y="2421000"/>
            <a:ext cx="2882880" cy="21668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2701440" y="494172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mple: C’est son s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Pizzicato-Swash"/>
              </a:rPr>
              <a:t>Qu’est-ce que c’est?</a:t>
            </a: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Pizzicato-Swash"/>
              </a:rPr>
              <a:t>À Élise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pic>
        <p:nvPicPr>
          <p:cNvPr id="145" name="Picture 5" descr="BAG%20%20$4"/>
          <p:cNvPicPr/>
          <p:nvPr/>
        </p:nvPicPr>
        <p:blipFill>
          <a:blip r:embed="rId1"/>
          <a:stretch/>
        </p:blipFill>
        <p:spPr>
          <a:xfrm>
            <a:off x="2843280" y="1969920"/>
            <a:ext cx="4465440" cy="33498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6"/>
          <p:cNvSpPr/>
          <p:nvPr/>
        </p:nvSpPr>
        <p:spPr>
          <a:xfrm>
            <a:off x="3924360" y="537372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’est son s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Pizzicato-Swash"/>
              </a:rPr>
              <a:t>Qu’est-ce que c’est?</a:t>
            </a: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Pizzicato-Swash"/>
              </a:rPr>
              <a:t>À toi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pic>
        <p:nvPicPr>
          <p:cNvPr id="149" name="Picture 5" descr="eraser"/>
          <p:cNvPicPr/>
          <p:nvPr/>
        </p:nvPicPr>
        <p:blipFill>
          <a:blip r:embed="rId1"/>
          <a:stretch/>
        </p:blipFill>
        <p:spPr>
          <a:xfrm>
            <a:off x="2771640" y="1700280"/>
            <a:ext cx="3384720" cy="33368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3132000" y="52293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’est ta gom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Pizzicato-Swash"/>
              </a:rPr>
              <a:t>Qu’est-ce que c’est?</a:t>
            </a: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766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À Mylène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</p:txBody>
      </p:sp>
      <p:pic>
        <p:nvPicPr>
          <p:cNvPr id="153" name="Picture 5" descr="metallic%20pens%20chubby"/>
          <p:cNvPicPr/>
          <p:nvPr/>
        </p:nvPicPr>
        <p:blipFill>
          <a:blip r:embed="rId1"/>
          <a:stretch/>
        </p:blipFill>
        <p:spPr>
          <a:xfrm>
            <a:off x="2598840" y="2143080"/>
            <a:ext cx="3948120" cy="29671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7"/>
          <p:cNvSpPr/>
          <p:nvPr/>
        </p:nvSpPr>
        <p:spPr>
          <a:xfrm>
            <a:off x="2987280" y="5229360"/>
            <a:ext cx="31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e sont ses sty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Pizzicato-Swash"/>
              </a:rPr>
              <a:t>Qu’est-ce que c’est?</a:t>
            </a: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766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À Jean et Philippe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</p:txBody>
      </p:sp>
      <p:pic>
        <p:nvPicPr>
          <p:cNvPr id="157" name="Picture 5" descr="school8"/>
          <p:cNvPicPr/>
          <p:nvPr/>
        </p:nvPicPr>
        <p:blipFill>
          <a:blip r:embed="rId1"/>
          <a:stretch/>
        </p:blipFill>
        <p:spPr>
          <a:xfrm>
            <a:off x="3780000" y="2230560"/>
            <a:ext cx="4260600" cy="30938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7"/>
          <p:cNvSpPr/>
          <p:nvPr/>
        </p:nvSpPr>
        <p:spPr>
          <a:xfrm>
            <a:off x="4357800" y="5229360"/>
            <a:ext cx="27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’est leur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éco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Pizzicato-Swash"/>
              </a:rPr>
              <a:t>Qu’est-ce que c’est?</a:t>
            </a: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766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À nous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</p:txBody>
      </p:sp>
      <p:pic>
        <p:nvPicPr>
          <p:cNvPr id="161" name="Picture 5" descr="educationclipart023bw"/>
          <p:cNvPicPr/>
          <p:nvPr/>
        </p:nvPicPr>
        <p:blipFill>
          <a:blip r:embed="rId1"/>
          <a:stretch/>
        </p:blipFill>
        <p:spPr>
          <a:xfrm>
            <a:off x="4211640" y="2143080"/>
            <a:ext cx="3454560" cy="35924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5005800" y="4005360"/>
            <a:ext cx="20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rdinateur (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3781800" y="4724280"/>
            <a:ext cx="37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’est notre ordinate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Pizzicato-Swash"/>
              </a:rPr>
              <a:t>Qu’est-ce que c’est?</a:t>
            </a:r>
            <a:endParaRPr b="1" lang="en-US" sz="40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7280" y="2057040"/>
            <a:ext cx="7575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’est un crayon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’est </a:t>
            </a:r>
            <a:r>
              <a:rPr b="1" lang="en-GB" sz="3200" spc="-1" strike="noStrike">
                <a:solidFill>
                  <a:srgbClr val="000000"/>
                </a:solidFill>
                <a:latin typeface="Pizzicato-Swash"/>
              </a:rPr>
              <a:t>mon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 crayon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5150160" y="5157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À m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3" descr="pencil"/>
          <p:cNvPicPr/>
          <p:nvPr/>
        </p:nvPicPr>
        <p:blipFill>
          <a:blip r:embed="rId1"/>
          <a:stretch/>
        </p:blipFill>
        <p:spPr>
          <a:xfrm>
            <a:off x="2124000" y="3500280"/>
            <a:ext cx="280044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6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Pizzicato-Swash"/>
              </a:rPr>
              <a:t>Qu’est-ce que c’est?</a:t>
            </a: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Pizzicato-Swash"/>
              </a:rPr>
              <a:t>À Monsieur et Madame Rémy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pic>
        <p:nvPicPr>
          <p:cNvPr id="166" name="Picture 5" descr="2325620"/>
          <p:cNvPicPr/>
          <p:nvPr/>
        </p:nvPicPr>
        <p:blipFill>
          <a:blip r:embed="rId1"/>
          <a:stretch/>
        </p:blipFill>
        <p:spPr>
          <a:xfrm>
            <a:off x="2771640" y="2781360"/>
            <a:ext cx="3333960" cy="21715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6"/>
          <p:cNvSpPr/>
          <p:nvPr/>
        </p:nvSpPr>
        <p:spPr>
          <a:xfrm>
            <a:off x="3060720" y="501336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’est leur voi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Pizzicato-Swash"/>
              </a:rPr>
              <a:t>Qu’est-ce que c’est?</a:t>
            </a: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Pizzicato-Swash"/>
              </a:rPr>
              <a:t>À Monique et Martin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pic>
        <p:nvPicPr>
          <p:cNvPr id="170" name="Picture 5" descr="book01"/>
          <p:cNvPicPr/>
          <p:nvPr/>
        </p:nvPicPr>
        <p:blipFill>
          <a:blip r:embed="rId1"/>
          <a:stretch/>
        </p:blipFill>
        <p:spPr>
          <a:xfrm>
            <a:off x="4643280" y="1773360"/>
            <a:ext cx="3557880" cy="39607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1187280" y="508464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e sont leurs liv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cc0066"/>
                </a:solidFill>
                <a:latin typeface="Pizzicato-Swash"/>
              </a:rPr>
              <a:t>Qui est-ce</a:t>
            </a:r>
            <a:r>
              <a:rPr b="1" lang="en-GB" sz="4400" spc="-1" strike="noStrike">
                <a:solidFill>
                  <a:srgbClr val="cc0066"/>
                </a:solidFill>
                <a:latin typeface="Pizzicato-Swash"/>
              </a:rPr>
              <a:t>?</a:t>
            </a: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Pizzicato-Swash"/>
              </a:rPr>
              <a:t>C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’est le professeur de Jean, Pierre et Philippe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pic>
        <p:nvPicPr>
          <p:cNvPr id="174" name="Picture 5" descr="teacher_clipart_3"/>
          <p:cNvPicPr/>
          <p:nvPr/>
        </p:nvPicPr>
        <p:blipFill>
          <a:blip r:embed="rId1"/>
          <a:stretch/>
        </p:blipFill>
        <p:spPr>
          <a:xfrm>
            <a:off x="5364000" y="2781360"/>
            <a:ext cx="2073600" cy="25923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6"/>
          <p:cNvSpPr/>
          <p:nvPr/>
        </p:nvSpPr>
        <p:spPr>
          <a:xfrm>
            <a:off x="1549440" y="458136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’est leur professe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cc0066"/>
                </a:solidFill>
                <a:latin typeface="Pizzicato-Swash"/>
              </a:rPr>
              <a:t>Qui est-ce</a:t>
            </a:r>
            <a:r>
              <a:rPr b="1" lang="en-GB" sz="4400" spc="-1" strike="noStrike">
                <a:solidFill>
                  <a:srgbClr val="cc0066"/>
                </a:solidFill>
                <a:latin typeface="Pizzicato-Swash"/>
              </a:rPr>
              <a:t>?</a:t>
            </a: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e sont les amis de Garfield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pic>
        <p:nvPicPr>
          <p:cNvPr id="178" name="Picture 5" descr="friends"/>
          <p:cNvPicPr/>
          <p:nvPr/>
        </p:nvPicPr>
        <p:blipFill>
          <a:blip r:embed="rId1"/>
          <a:stretch/>
        </p:blipFill>
        <p:spPr>
          <a:xfrm>
            <a:off x="1332000" y="2708280"/>
            <a:ext cx="3887640" cy="29383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5293800" y="5013360"/>
            <a:ext cx="301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e sont ses am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cc0066"/>
                </a:solidFill>
                <a:latin typeface="Pizzicato-Swash"/>
              </a:rPr>
              <a:t>Qui est-ce</a:t>
            </a:r>
            <a:r>
              <a:rPr b="1" lang="en-GB" sz="4400" spc="-1" strike="noStrike">
                <a:solidFill>
                  <a:srgbClr val="cc0066"/>
                </a:solidFill>
                <a:latin typeface="Pizzicato-Swash"/>
              </a:rPr>
              <a:t>?</a:t>
            </a: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pic>
        <p:nvPicPr>
          <p:cNvPr id="181" name="Picture 4" descr="friends"/>
          <p:cNvPicPr/>
          <p:nvPr/>
        </p:nvPicPr>
        <p:blipFill>
          <a:blip r:embed="rId1"/>
          <a:stretch/>
        </p:blipFill>
        <p:spPr>
          <a:xfrm>
            <a:off x="2052720" y="2351160"/>
            <a:ext cx="4444920" cy="27478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1835280" y="184464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e sont les amis de Garfield et d’Od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3205080" y="5300640"/>
            <a:ext cx="32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e sont leurs am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cc0066"/>
                </a:solidFill>
                <a:latin typeface="Pizzicato-Swash"/>
              </a:rPr>
              <a:t>Exercices</a:t>
            </a:r>
            <a:endParaRPr b="1" lang="en-US" sz="5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2800" spc="-1" strike="noStrike">
              <a:solidFill>
                <a:srgbClr val="99cc00"/>
              </a:solidFill>
              <a:latin typeface="Pizzicato-Swas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cc0066"/>
                </a:solidFill>
                <a:latin typeface="Pizzicato-Swash"/>
              </a:rPr>
              <a:t>C</a:t>
            </a:r>
            <a:r>
              <a:rPr b="1" lang="en-US" sz="4000" spc="-1" strike="noStrike">
                <a:solidFill>
                  <a:srgbClr val="cc0066"/>
                </a:solidFill>
                <a:latin typeface="Pizzicato-Swash"/>
              </a:rPr>
              <a:t>’est </a:t>
            </a:r>
            <a:r>
              <a:rPr b="1" lang="fr-CA" sz="4000" spc="-1" strike="noStrike">
                <a:solidFill>
                  <a:srgbClr val="cc0066"/>
                </a:solidFill>
                <a:latin typeface="Pizzicato-Swash"/>
              </a:rPr>
              <a:t>à moi! Complétez par </a:t>
            </a:r>
            <a:r>
              <a:rPr b="0" i="1" lang="fr-CA" sz="4000" spc="-1" strike="noStrike">
                <a:solidFill>
                  <a:srgbClr val="cc0066"/>
                </a:solidFill>
                <a:latin typeface="Pizzicato-Swash"/>
              </a:rPr>
              <a:t>mon</a:t>
            </a:r>
            <a:r>
              <a:rPr b="1" lang="fr-CA" sz="4000" spc="-1" strike="noStrike">
                <a:solidFill>
                  <a:srgbClr val="cc0066"/>
                </a:solidFill>
                <a:latin typeface="Pizzicato-Swash"/>
              </a:rPr>
              <a:t>, </a:t>
            </a:r>
            <a:r>
              <a:rPr b="0" i="1" lang="fr-CA" sz="4000" spc="-1" strike="noStrike">
                <a:solidFill>
                  <a:srgbClr val="cc0066"/>
                </a:solidFill>
                <a:latin typeface="Pizzicato-Swash"/>
              </a:rPr>
              <a:t>ma</a:t>
            </a:r>
            <a:r>
              <a:rPr b="1" lang="fr-CA" sz="4000" spc="-1" strike="noStrike">
                <a:solidFill>
                  <a:srgbClr val="cc0066"/>
                </a:solidFill>
                <a:latin typeface="Pizzicato-Swash"/>
              </a:rPr>
              <a:t> ou </a:t>
            </a:r>
            <a:r>
              <a:rPr b="0" lang="fr-CA" sz="4000" spc="-1" strike="noStrike">
                <a:solidFill>
                  <a:srgbClr val="cc0066"/>
                </a:solidFill>
                <a:latin typeface="Pizzicato-Swash"/>
              </a:rPr>
              <a:t>mes</a:t>
            </a:r>
            <a:r>
              <a:rPr b="1" lang="fr-CA" sz="4000" spc="-1" strike="noStrike">
                <a:solidFill>
                  <a:srgbClr val="cc0066"/>
                </a:solidFill>
                <a:latin typeface="Pizzicato-Swash"/>
              </a:rPr>
              <a:t>.</a:t>
            </a:r>
            <a:endParaRPr b="1" lang="en-US" sz="40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766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___ village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___ table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___ voiture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___ maison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___ clés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___ appartement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6480" y="2057040"/>
            <a:ext cx="40766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___ café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___ livres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___ limonade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___ vacances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___ bureau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___ agenda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cc0066"/>
                </a:solidFill>
                <a:latin typeface="Pizzicato-Swash"/>
              </a:rPr>
              <a:t>Choisissez </a:t>
            </a:r>
            <a:r>
              <a:rPr b="0" i="1" lang="fr-CA" sz="4400" spc="-1" strike="noStrike">
                <a:solidFill>
                  <a:srgbClr val="cc0066"/>
                </a:solidFill>
                <a:latin typeface="Pizzicato-Swash"/>
              </a:rPr>
              <a:t>ton</a:t>
            </a:r>
            <a:r>
              <a:rPr b="1" lang="fr-CA" sz="4400" spc="-1" strike="noStrike">
                <a:solidFill>
                  <a:srgbClr val="cc0066"/>
                </a:solidFill>
                <a:latin typeface="Pizzicato-Swash"/>
              </a:rPr>
              <a:t> ou </a:t>
            </a:r>
            <a:r>
              <a:rPr b="0" i="1" lang="fr-CA" sz="4400" spc="-1" strike="noStrike">
                <a:solidFill>
                  <a:srgbClr val="cc0066"/>
                </a:solidFill>
                <a:latin typeface="Pizzicato-Swash"/>
              </a:rPr>
              <a:t>ta</a:t>
            </a:r>
            <a:r>
              <a:rPr b="1" lang="fr-CA" sz="4400" spc="-1" strike="noStrike">
                <a:solidFill>
                  <a:srgbClr val="cc0066"/>
                </a:solidFill>
                <a:latin typeface="Pizzicato-Swash"/>
              </a:rPr>
              <a:t>.</a:t>
            </a: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766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___ prénom (m)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___ adresse (f)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___ âge (m)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___ professeur (m)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___ papa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___ maman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6480" y="2057040"/>
            <a:ext cx="40766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___ médecin (m)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___ amie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___ élève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___ chanson (f)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___ infirmière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Pizzicato-Swash"/>
              </a:rPr>
              <a:t>___ école</a:t>
            </a:r>
            <a:endParaRPr b="0" lang="en-US" sz="2800" spc="-1" strike="noStrike">
              <a:solidFill>
                <a:srgbClr val="000000"/>
              </a:solidFill>
              <a:latin typeface="Pizzicato-Swas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700" spc="-1" strike="noStrike">
                <a:solidFill>
                  <a:srgbClr val="cc0066"/>
                </a:solidFill>
                <a:latin typeface="Pizzicato-Swash"/>
              </a:rPr>
              <a:t>Associez les expressions qui vont ensemble.</a:t>
            </a:r>
            <a:br>
              <a:rPr sz="2700"/>
            </a:br>
            <a:r>
              <a:rPr b="1" lang="fr-CA" sz="2700" spc="-1" strike="noStrike">
                <a:solidFill>
                  <a:srgbClr val="cc0066"/>
                </a:solidFill>
                <a:latin typeface="Pizzicato-Swash"/>
              </a:rPr>
              <a:t>Exemple: Tu cherches des disques.</a:t>
            </a:r>
            <a:br>
              <a:rPr sz="2700"/>
            </a:br>
            <a:r>
              <a:rPr b="1" lang="fr-CA" sz="2700" spc="-1" strike="noStrike">
                <a:solidFill>
                  <a:srgbClr val="cc0066"/>
                </a:solidFill>
                <a:latin typeface="Wingdings"/>
                <a:ea typeface="Wingdings"/>
              </a:rPr>
              <a:t></a:t>
            </a:r>
            <a:r>
              <a:rPr b="1" lang="fr-CA" sz="2700" spc="-1" strike="noStrike">
                <a:solidFill>
                  <a:srgbClr val="cc0066"/>
                </a:solidFill>
                <a:latin typeface="Pizzicato-Swash"/>
              </a:rPr>
              <a:t> 8. Voilà tes disques.</a:t>
            </a:r>
            <a:endParaRPr b="1" lang="en-US" sz="27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0719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izzicato-Swash"/>
              </a:rPr>
              <a:t>Tu cherches des disques.</a:t>
            </a:r>
            <a:endParaRPr b="0" lang="en-US" sz="2400" spc="-1" strike="noStrike">
              <a:solidFill>
                <a:srgbClr val="000000"/>
              </a:solidFill>
              <a:latin typeface="Pizzicato-Swash"/>
            </a:endParaRPr>
          </a:p>
          <a:p>
            <a:pPr marL="315360" indent="-315360">
              <a:spcBef>
                <a:spcPts val="601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izzicato-Swash"/>
              </a:rPr>
              <a:t>Ces chaussures sont à moi.</a:t>
            </a:r>
            <a:endParaRPr b="0" lang="en-US" sz="2400" spc="-1" strike="noStrike">
              <a:solidFill>
                <a:srgbClr val="000000"/>
              </a:solidFill>
              <a:latin typeface="Pizzicato-Swash"/>
            </a:endParaRPr>
          </a:p>
          <a:p>
            <a:pPr marL="315360" indent="-315360">
              <a:spcBef>
                <a:spcPts val="601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izzicato-Swash"/>
              </a:rPr>
              <a:t>Elle a des amis.</a:t>
            </a:r>
            <a:endParaRPr b="0" lang="en-US" sz="2400" spc="-1" strike="noStrike">
              <a:solidFill>
                <a:srgbClr val="000000"/>
              </a:solidFill>
              <a:latin typeface="Pizzicato-Swash"/>
            </a:endParaRPr>
          </a:p>
          <a:p>
            <a:pPr marL="315360" indent="-315360">
              <a:spcBef>
                <a:spcPts val="601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izzicato-Swash"/>
              </a:rPr>
              <a:t>Il a une voiture.</a:t>
            </a:r>
            <a:endParaRPr b="0" lang="en-US" sz="2400" spc="-1" strike="noStrike">
              <a:solidFill>
                <a:srgbClr val="000000"/>
              </a:solidFill>
              <a:latin typeface="Pizzicato-Swash"/>
            </a:endParaRPr>
          </a:p>
          <a:p>
            <a:pPr marL="315360" indent="-315360">
              <a:spcBef>
                <a:spcPts val="601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izzicato-Swash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Pizzicato-Swash"/>
              </a:rPr>
              <a:t>’ai un billet.</a:t>
            </a:r>
            <a:endParaRPr b="0" lang="en-US" sz="2400" spc="-1" strike="noStrike">
              <a:solidFill>
                <a:srgbClr val="000000"/>
              </a:solidFill>
              <a:latin typeface="Pizzicato-Swash"/>
            </a:endParaRPr>
          </a:p>
          <a:p>
            <a:pPr marL="315360" indent="-315360">
              <a:spcBef>
                <a:spcPts val="601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izzicato-Swash"/>
              </a:rPr>
              <a:t>Tu as un r</a:t>
            </a:r>
            <a:r>
              <a:rPr b="0" lang="fr-CA" sz="2400" spc="-1" strike="noStrike">
                <a:solidFill>
                  <a:srgbClr val="000000"/>
                </a:solidFill>
                <a:latin typeface="Pizzicato-Swash"/>
              </a:rPr>
              <a:t>éveil.</a:t>
            </a:r>
            <a:endParaRPr b="0" lang="en-US" sz="2400" spc="-1" strike="noStrike">
              <a:solidFill>
                <a:srgbClr val="000000"/>
              </a:solidFill>
              <a:latin typeface="Pizzicato-Swash"/>
            </a:endParaRPr>
          </a:p>
          <a:p>
            <a:pPr marL="315360" indent="-315360">
              <a:spcBef>
                <a:spcPts val="601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izzicato-Swash"/>
              </a:rPr>
              <a:t>Je prends une tarte.</a:t>
            </a:r>
            <a:endParaRPr b="0" lang="en-US" sz="2400" spc="-1" strike="noStrike">
              <a:solidFill>
                <a:srgbClr val="000000"/>
              </a:solidFill>
              <a:latin typeface="Pizzicato-Swash"/>
            </a:endParaRPr>
          </a:p>
          <a:p>
            <a:pPr marL="315360" indent="-315360">
              <a:spcBef>
                <a:spcPts val="601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izzicato-Swash"/>
              </a:rPr>
              <a:t>Il écrit un roman.</a:t>
            </a:r>
            <a:endParaRPr b="0" lang="en-US" sz="2400" spc="-1" strike="noStrike">
              <a:solidFill>
                <a:srgbClr val="000000"/>
              </a:solidFill>
              <a:latin typeface="Pizzicato-Swash"/>
            </a:endParaRPr>
          </a:p>
          <a:p>
            <a:pPr marL="315360" indent="-315360">
              <a:spcBef>
                <a:spcPts val="601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izzicato-Swash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Pizzicato-Swash"/>
              </a:rPr>
              <a:t>’ai une nouvelle adresse.</a:t>
            </a:r>
            <a:endParaRPr b="0" lang="en-US" sz="24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90800" y="2057040"/>
            <a:ext cx="40719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Pizzicato-Swas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izzicato-Swash"/>
              </a:rPr>
              <a:t>Voici mon adresse.</a:t>
            </a:r>
            <a:endParaRPr b="0" lang="en-US" sz="2400" spc="-1" strike="noStrike">
              <a:solidFill>
                <a:srgbClr val="000000"/>
              </a:solidFill>
              <a:latin typeface="Pizzicato-Swash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Pizzicato-Swas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izzicato-Swash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Pizzicato-Swash"/>
              </a:rPr>
              <a:t>’est ma tarte.</a:t>
            </a:r>
            <a:endParaRPr b="0" lang="en-US" sz="2400" spc="-1" strike="noStrike">
              <a:solidFill>
                <a:srgbClr val="000000"/>
              </a:solidFill>
              <a:latin typeface="Pizzicato-Swash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Pizzicato-Swas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izzicato-Swash"/>
              </a:rPr>
              <a:t>Voil</a:t>
            </a:r>
            <a:r>
              <a:rPr b="0" lang="fr-CA" sz="2400" spc="-1" strike="noStrike">
                <a:solidFill>
                  <a:srgbClr val="000000"/>
                </a:solidFill>
                <a:latin typeface="Pizzicato-Swash"/>
              </a:rPr>
              <a:t>à son roman.</a:t>
            </a:r>
            <a:endParaRPr b="0" lang="en-US" sz="2400" spc="-1" strike="noStrike">
              <a:solidFill>
                <a:srgbClr val="000000"/>
              </a:solidFill>
              <a:latin typeface="Pizzicato-Swash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Pizzicato-Swas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izzicato-Swash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Pizzicato-Swash"/>
              </a:rPr>
              <a:t>’est sa voiture.</a:t>
            </a:r>
            <a:endParaRPr b="0" lang="en-US" sz="2400" spc="-1" strike="noStrike">
              <a:solidFill>
                <a:srgbClr val="000000"/>
              </a:solidFill>
              <a:latin typeface="Pizzicato-Swash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Pizzicato-Swas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izzicato-Swash"/>
              </a:rPr>
              <a:t>C’est ton r</a:t>
            </a:r>
            <a:r>
              <a:rPr b="0" lang="fr-CA" sz="2400" spc="-1" strike="noStrike">
                <a:solidFill>
                  <a:srgbClr val="000000"/>
                </a:solidFill>
                <a:latin typeface="Pizzicato-Swash"/>
              </a:rPr>
              <a:t>éveil.</a:t>
            </a:r>
            <a:endParaRPr b="0" lang="en-US" sz="2400" spc="-1" strike="noStrike">
              <a:solidFill>
                <a:srgbClr val="000000"/>
              </a:solidFill>
              <a:latin typeface="Pizzicato-Swash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Pizzicato-Swas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izzicato-Swash"/>
              </a:rPr>
              <a:t>Voilà ses amis.</a:t>
            </a:r>
            <a:endParaRPr b="0" lang="en-US" sz="2400" spc="-1" strike="noStrike">
              <a:solidFill>
                <a:srgbClr val="000000"/>
              </a:solidFill>
              <a:latin typeface="Pizzicato-Swash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Pizzicato-Swas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izzicato-Swash"/>
              </a:rPr>
              <a:t>Ce sont mes chaussures.</a:t>
            </a:r>
            <a:endParaRPr b="0" lang="en-US" sz="2400" spc="-1" strike="noStrike">
              <a:solidFill>
                <a:srgbClr val="000000"/>
              </a:solidFill>
              <a:latin typeface="Pizzicato-Swash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Pizzicato-Swas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izzicato-Swash"/>
              </a:rPr>
              <a:t>Voilà tes disques.</a:t>
            </a:r>
            <a:endParaRPr b="0" lang="en-US" sz="2400" spc="-1" strike="noStrike">
              <a:solidFill>
                <a:srgbClr val="000000"/>
              </a:solidFill>
              <a:latin typeface="Pizzicato-Swash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Pizzicato-Swas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izzicato-Swash"/>
              </a:rPr>
              <a:t>C’est mon billet.</a:t>
            </a:r>
            <a:endParaRPr b="0" lang="en-US" sz="2400" spc="-1" strike="noStrike">
              <a:solidFill>
                <a:srgbClr val="000000"/>
              </a:solidFill>
              <a:latin typeface="Pizzicato-Swash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izzicato-Swas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Pizzicato-Swash"/>
              </a:rPr>
              <a:t>Qu’est-ce que c’est?</a:t>
            </a: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7280" y="2057040"/>
            <a:ext cx="7575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Pizzicato-Swash"/>
              </a:rPr>
              <a:t>C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’est une chaise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’est </a:t>
            </a:r>
            <a:r>
              <a:rPr b="1" lang="en-GB" sz="3200" spc="-1" strike="noStrike">
                <a:solidFill>
                  <a:srgbClr val="000000"/>
                </a:solidFill>
                <a:latin typeface="Pizzicato-Swash"/>
              </a:rPr>
              <a:t>ma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 chaise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pic>
        <p:nvPicPr>
          <p:cNvPr id="92" name="Picture 5" descr="chair"/>
          <p:cNvPicPr/>
          <p:nvPr/>
        </p:nvPicPr>
        <p:blipFill>
          <a:blip r:embed="rId1"/>
          <a:stretch/>
        </p:blipFill>
        <p:spPr>
          <a:xfrm>
            <a:off x="5003640" y="2492280"/>
            <a:ext cx="3025800" cy="2268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6012000" y="494172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Andy"/>
              </a:rPr>
              <a:t>À mo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2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Pizzicato-Swash"/>
              </a:rPr>
              <a:t>Qu’est-ce que c’est?</a:t>
            </a: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e sont des crayons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e sont </a:t>
            </a:r>
            <a:r>
              <a:rPr b="1" lang="en-GB" sz="3200" spc="-1" strike="noStrike">
                <a:solidFill>
                  <a:srgbClr val="000000"/>
                </a:solidFill>
                <a:latin typeface="Pizzicato-Swash"/>
              </a:rPr>
              <a:t>mes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 crayons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pic>
        <p:nvPicPr>
          <p:cNvPr id="96" name="Picture 5" descr="pencils"/>
          <p:cNvPicPr/>
          <p:nvPr/>
        </p:nvPicPr>
        <p:blipFill>
          <a:blip r:embed="rId1"/>
          <a:stretch/>
        </p:blipFill>
        <p:spPr>
          <a:xfrm>
            <a:off x="5148360" y="2060640"/>
            <a:ext cx="2739960" cy="27399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5980680" y="501336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Andy"/>
              </a:rPr>
              <a:t>À mo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Pizzicato-Swash"/>
              </a:rPr>
              <a:t>Qu’est-ce que c’est?</a:t>
            </a: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2057040"/>
            <a:ext cx="7996320" cy="12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izzicato-Swash"/>
              </a:rPr>
              <a:t>Ce sont des chaises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izzicato-Swash"/>
              </a:rPr>
              <a:t>Ce sont </a:t>
            </a:r>
            <a:r>
              <a:rPr b="1" lang="en-US" sz="3200" spc="-1" strike="noStrike">
                <a:solidFill>
                  <a:srgbClr val="000000"/>
                </a:solidFill>
                <a:latin typeface="Pizzicato-Swash"/>
              </a:rPr>
              <a:t>mes</a:t>
            </a:r>
            <a:r>
              <a:rPr b="0" lang="en-US" sz="3200" spc="-1" strike="noStrike">
                <a:solidFill>
                  <a:srgbClr val="000000"/>
                </a:solidFill>
                <a:latin typeface="Pizzicato-Swash"/>
              </a:rPr>
              <a:t> chaises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pic>
        <p:nvPicPr>
          <p:cNvPr id="100" name="Picture 5" descr="chairs"/>
          <p:cNvPicPr/>
          <p:nvPr/>
        </p:nvPicPr>
        <p:blipFill>
          <a:blip r:embed="rId1"/>
          <a:stretch/>
        </p:blipFill>
        <p:spPr>
          <a:xfrm>
            <a:off x="5264280" y="2270160"/>
            <a:ext cx="2593800" cy="30258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4109040" y="508464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Andy"/>
              </a:rPr>
              <a:t>À mo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6840" y="2204640"/>
            <a:ext cx="407196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Pizzicato-Swash"/>
              </a:rPr>
              <a:t>Mon</a:t>
            </a:r>
            <a:r>
              <a:rPr b="0" lang="en-US" sz="3200" spc="-1" strike="noStrike">
                <a:solidFill>
                  <a:srgbClr val="000000"/>
                </a:solidFill>
                <a:latin typeface="Pizzicato-Swash"/>
              </a:rPr>
              <a:t> crayon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Pizzicato-Swash"/>
              </a:rPr>
              <a:t>Ma</a:t>
            </a:r>
            <a:r>
              <a:rPr b="0" lang="en-US" sz="3200" spc="-1" strike="noStrike">
                <a:solidFill>
                  <a:srgbClr val="000000"/>
                </a:solidFill>
                <a:latin typeface="Pizzicato-Swash"/>
              </a:rPr>
              <a:t> chaise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Pizzicato-Swash"/>
              </a:rPr>
              <a:t>Mes</a:t>
            </a:r>
            <a:r>
              <a:rPr b="0" lang="en-US" sz="3200" spc="-1" strike="noStrike">
                <a:solidFill>
                  <a:srgbClr val="000000"/>
                </a:solidFill>
                <a:latin typeface="Pizzicato-Swash"/>
              </a:rPr>
              <a:t> crayons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Pizzicato-Swash"/>
              </a:rPr>
              <a:t>Mes</a:t>
            </a:r>
            <a:r>
              <a:rPr b="0" lang="en-US" sz="3200" spc="-1" strike="noStrike">
                <a:solidFill>
                  <a:srgbClr val="000000"/>
                </a:solidFill>
                <a:latin typeface="Pizzicato-Swash"/>
              </a:rPr>
              <a:t> chaises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90800" y="2204640"/>
            <a:ext cx="407196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izzicato-Swash"/>
              </a:rPr>
              <a:t>Masculin singulier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izzicato-Swash"/>
              </a:rPr>
              <a:t>F</a:t>
            </a:r>
            <a:r>
              <a:rPr b="0" lang="fr-CA" sz="3200" spc="-1" strike="noStrike">
                <a:solidFill>
                  <a:srgbClr val="000000"/>
                </a:solidFill>
                <a:latin typeface="Pizzicato-Swash"/>
              </a:rPr>
              <a:t>éminin singulier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Pizzicato-Swash"/>
              </a:rPr>
              <a:t>Masculin pluriel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Pizzicato-Swash"/>
              </a:rPr>
              <a:t>Féminin pluriel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Pizzicato-Swash"/>
              </a:rPr>
              <a:t>Et si c’est à toi?</a:t>
            </a: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pic>
        <p:nvPicPr>
          <p:cNvPr id="106" name="Picture 4" descr="pencil"/>
          <p:cNvPicPr/>
          <p:nvPr/>
        </p:nvPicPr>
        <p:blipFill>
          <a:blip r:embed="rId1"/>
          <a:stretch/>
        </p:blipFill>
        <p:spPr>
          <a:xfrm>
            <a:off x="0" y="1125360"/>
            <a:ext cx="2306520" cy="14176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76920" y="1989000"/>
            <a:ext cx="40161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’est </a:t>
            </a:r>
            <a:r>
              <a:rPr b="1" lang="en-GB" sz="3200" spc="-1" strike="noStrike">
                <a:solidFill>
                  <a:srgbClr val="000000"/>
                </a:solidFill>
                <a:latin typeface="Pizzicato-Swash"/>
              </a:rPr>
              <a:t>ton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 crayon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’est </a:t>
            </a:r>
            <a:r>
              <a:rPr b="1" lang="en-GB" sz="3200" spc="-1" strike="noStrike">
                <a:solidFill>
                  <a:srgbClr val="000000"/>
                </a:solidFill>
                <a:latin typeface="Pizzicato-Swash"/>
              </a:rPr>
              <a:t>ta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 chaise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e sont </a:t>
            </a:r>
            <a:r>
              <a:rPr b="1" lang="en-GB" sz="3200" spc="-1" strike="noStrike">
                <a:solidFill>
                  <a:srgbClr val="000000"/>
                </a:solidFill>
                <a:latin typeface="Pizzicato-Swash"/>
              </a:rPr>
              <a:t>tes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 crayons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e sont </a:t>
            </a:r>
            <a:r>
              <a:rPr b="1" lang="en-GB" sz="3200" spc="-1" strike="noStrike">
                <a:solidFill>
                  <a:srgbClr val="000000"/>
                </a:solidFill>
                <a:latin typeface="Pizzicato-Swash"/>
              </a:rPr>
              <a:t>tes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 chaises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pic>
        <p:nvPicPr>
          <p:cNvPr id="108" name="Picture 8" descr="chair"/>
          <p:cNvPicPr/>
          <p:nvPr/>
        </p:nvPicPr>
        <p:blipFill>
          <a:blip r:embed="rId2"/>
          <a:stretch/>
        </p:blipFill>
        <p:spPr>
          <a:xfrm>
            <a:off x="250920" y="2708280"/>
            <a:ext cx="2082600" cy="1562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pencils"/>
          <p:cNvPicPr/>
          <p:nvPr/>
        </p:nvPicPr>
        <p:blipFill>
          <a:blip r:embed="rId3"/>
          <a:stretch/>
        </p:blipFill>
        <p:spPr>
          <a:xfrm>
            <a:off x="611280" y="436572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chairs"/>
          <p:cNvPicPr/>
          <p:nvPr/>
        </p:nvPicPr>
        <p:blipFill>
          <a:blip r:embed="rId4"/>
          <a:stretch/>
        </p:blipFill>
        <p:spPr>
          <a:xfrm>
            <a:off x="2916360" y="1916280"/>
            <a:ext cx="19065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Pizzicato-Swash"/>
              </a:rPr>
              <a:t>Et si c’est à lui/elle?</a:t>
            </a: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pic>
        <p:nvPicPr>
          <p:cNvPr id="112" name="Picture 3" descr="pencil"/>
          <p:cNvPicPr/>
          <p:nvPr/>
        </p:nvPicPr>
        <p:blipFill>
          <a:blip r:embed="rId1"/>
          <a:stretch/>
        </p:blipFill>
        <p:spPr>
          <a:xfrm>
            <a:off x="0" y="1916280"/>
            <a:ext cx="2306520" cy="14173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876920" y="1599840"/>
            <a:ext cx="4016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’est </a:t>
            </a:r>
            <a:r>
              <a:rPr b="1" lang="en-GB" sz="3200" spc="-1" strike="noStrike">
                <a:solidFill>
                  <a:srgbClr val="000000"/>
                </a:solidFill>
                <a:latin typeface="Pizzicato-Swash"/>
              </a:rPr>
              <a:t>son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 crayon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’est </a:t>
            </a:r>
            <a:r>
              <a:rPr b="1" lang="en-GB" sz="3200" spc="-1" strike="noStrike">
                <a:solidFill>
                  <a:srgbClr val="000000"/>
                </a:solidFill>
                <a:latin typeface="Pizzicato-Swash"/>
              </a:rPr>
              <a:t>sa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 chaise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e sont </a:t>
            </a:r>
            <a:r>
              <a:rPr b="1" lang="en-GB" sz="3200" spc="-1" strike="noStrike">
                <a:solidFill>
                  <a:srgbClr val="000000"/>
                </a:solidFill>
                <a:latin typeface="Pizzicato-Swash"/>
              </a:rPr>
              <a:t>ses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 crayons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e sont </a:t>
            </a:r>
            <a:r>
              <a:rPr b="1" lang="en-GB" sz="3200" spc="-1" strike="noStrike">
                <a:solidFill>
                  <a:srgbClr val="000000"/>
                </a:solidFill>
                <a:latin typeface="Pizzicato-Swash"/>
              </a:rPr>
              <a:t>ses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 chaises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pic>
        <p:nvPicPr>
          <p:cNvPr id="114" name="Picture 5" descr="chair"/>
          <p:cNvPicPr/>
          <p:nvPr/>
        </p:nvPicPr>
        <p:blipFill>
          <a:blip r:embed="rId2"/>
          <a:stretch/>
        </p:blipFill>
        <p:spPr>
          <a:xfrm>
            <a:off x="250920" y="3500280"/>
            <a:ext cx="2082600" cy="1562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pencils"/>
          <p:cNvPicPr/>
          <p:nvPr/>
        </p:nvPicPr>
        <p:blipFill>
          <a:blip r:embed="rId3"/>
          <a:stretch/>
        </p:blipFill>
        <p:spPr>
          <a:xfrm>
            <a:off x="2484360" y="1844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chairs"/>
          <p:cNvPicPr/>
          <p:nvPr/>
        </p:nvPicPr>
        <p:blipFill>
          <a:blip r:embed="rId4"/>
          <a:stretch/>
        </p:blipFill>
        <p:spPr>
          <a:xfrm>
            <a:off x="2627280" y="4292640"/>
            <a:ext cx="19065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Pizzicato-Swash"/>
              </a:rPr>
              <a:t>Et si c’est à nous?</a:t>
            </a:r>
            <a:endParaRPr b="1" lang="en-US" sz="4400" spc="-1" strike="noStrike">
              <a:solidFill>
                <a:srgbClr val="cc0066"/>
              </a:solidFill>
              <a:latin typeface="Pizzicato-Swash"/>
            </a:endParaRPr>
          </a:p>
        </p:txBody>
      </p:sp>
      <p:pic>
        <p:nvPicPr>
          <p:cNvPr id="118" name="Picture 3" descr="pencil"/>
          <p:cNvPicPr/>
          <p:nvPr/>
        </p:nvPicPr>
        <p:blipFill>
          <a:blip r:embed="rId1"/>
          <a:stretch/>
        </p:blipFill>
        <p:spPr>
          <a:xfrm>
            <a:off x="2411280" y="4508640"/>
            <a:ext cx="2306880" cy="14173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76920" y="1599840"/>
            <a:ext cx="4016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’est </a:t>
            </a:r>
            <a:r>
              <a:rPr b="1" lang="en-GB" sz="3200" spc="-1" strike="noStrike">
                <a:solidFill>
                  <a:srgbClr val="000000"/>
                </a:solidFill>
                <a:latin typeface="Pizzicato-Swash"/>
              </a:rPr>
              <a:t>notre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 crayon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’est </a:t>
            </a:r>
            <a:r>
              <a:rPr b="1" lang="en-GB" sz="3200" spc="-1" strike="noStrike">
                <a:solidFill>
                  <a:srgbClr val="000000"/>
                </a:solidFill>
                <a:latin typeface="Pizzicato-Swash"/>
              </a:rPr>
              <a:t>notre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 chaise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e sont </a:t>
            </a:r>
            <a:r>
              <a:rPr b="1" lang="en-GB" sz="3200" spc="-1" strike="noStrike">
                <a:solidFill>
                  <a:srgbClr val="000000"/>
                </a:solidFill>
                <a:latin typeface="Pizzicato-Swash"/>
              </a:rPr>
              <a:t>nos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 crayons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Pizzicato-Swas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Ce sont </a:t>
            </a:r>
            <a:r>
              <a:rPr b="1" lang="en-GB" sz="3200" spc="-1" strike="noStrike">
                <a:solidFill>
                  <a:srgbClr val="000000"/>
                </a:solidFill>
                <a:latin typeface="Pizzicato-Swash"/>
              </a:rPr>
              <a:t>nos</a:t>
            </a:r>
            <a:r>
              <a:rPr b="0" lang="en-GB" sz="3200" spc="-1" strike="noStrike">
                <a:solidFill>
                  <a:srgbClr val="000000"/>
                </a:solidFill>
                <a:latin typeface="Pizzicato-Swash"/>
              </a:rPr>
              <a:t> chaises.</a:t>
            </a:r>
            <a:endParaRPr b="0" lang="en-US" sz="3200" spc="-1" strike="noStrike">
              <a:solidFill>
                <a:srgbClr val="000000"/>
              </a:solidFill>
              <a:latin typeface="Pizzicato-Swash"/>
            </a:endParaRPr>
          </a:p>
        </p:txBody>
      </p:sp>
      <p:pic>
        <p:nvPicPr>
          <p:cNvPr id="120" name="Picture 5" descr="chair"/>
          <p:cNvPicPr/>
          <p:nvPr/>
        </p:nvPicPr>
        <p:blipFill>
          <a:blip r:embed="rId2"/>
          <a:stretch/>
        </p:blipFill>
        <p:spPr>
          <a:xfrm>
            <a:off x="0" y="3429000"/>
            <a:ext cx="2082960" cy="1562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pencils"/>
          <p:cNvPicPr/>
          <p:nvPr/>
        </p:nvPicPr>
        <p:blipFill>
          <a:blip r:embed="rId3"/>
          <a:stretch/>
        </p:blipFill>
        <p:spPr>
          <a:xfrm>
            <a:off x="0" y="1306440"/>
            <a:ext cx="2050920" cy="2051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chairs"/>
          <p:cNvPicPr/>
          <p:nvPr/>
        </p:nvPicPr>
        <p:blipFill>
          <a:blip r:embed="rId4"/>
          <a:stretch/>
        </p:blipFill>
        <p:spPr>
          <a:xfrm>
            <a:off x="2411280" y="1844640"/>
            <a:ext cx="19065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04:14:39Z</dcterms:created>
  <dc:creator>cheoann</dc:creator>
  <dc:description/>
  <dc:language>en-US</dc:language>
  <cp:lastModifiedBy>MANUEL VIERA ÉCOLE OFFICIELLE DE LANGUES</cp:lastModifiedBy>
  <dcterms:modified xsi:type="dcterms:W3CDTF">2015-10-20T22:49:42Z</dcterms:modified>
  <cp:revision>21</cp:revision>
  <dc:subject/>
  <dc:title>Les adjectifs possessifs</dc:title>
</cp:coreProperties>
</file>